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3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35.jpeg" ContentType="image/jpeg"/>
  <Override PartName="/ppt/media/image1.jpeg" ContentType="image/jpeg"/>
  <Override PartName="/ppt/media/image24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0FC-F5D1-47E8-A02F-DC433C86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12A-EAD7-4164-9A4C-0E839304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5BA-8161-4ECB-8D83-28EED537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7B8-CCB8-4A36-BA6D-8E9C5C64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DAF-BC45-4897-B8B3-B93DF95E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87F-1804-4D89-A05A-D2F31C98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ACE-407A-4B8D-97FF-55E57707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150-C943-4527-BE2A-798E8732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1E1-5880-43EB-BDE9-D52D47AC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660-45D1-4C27-836E-8F479F66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4EC-3270-41F3-B1EF-E2488B0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A92-88AC-47F8-9956-CD8CF53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CB3F-7E13-4DBF-99A9-ABB000781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icture 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143080" y="4797360"/>
            <a:ext cx="49291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utumn nigh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n Sibiu - Romania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6"/>
          <a:stretch/>
        </p:blipFill>
        <p:spPr>
          <a:xfrm>
            <a:off x="759636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icture 2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icture 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icture 2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Picture 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icture 2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icture 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icture 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icture 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ture 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icture 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icture 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icture 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icture 2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icture 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icture 2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cture 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icture 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icture 2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icture 2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icture 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icture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icture 174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icture 2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icture 2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icture 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icture 2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Picture 2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Picture 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icture 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icture 3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icture 3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icture 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icture 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icture 3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icture 3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Picture 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Picture 3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icture 3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icture 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ture 3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Picture 3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Picture 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ture 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icture 1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icture 3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icture 3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icture 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Picture 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Picture 3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icture 3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icture 3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Picture 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1187280" y="148428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rsonal Photo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rela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ctober 25th 2009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 1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icture 190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icture 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ure 2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20:29:45Z</dcterms:created>
  <dc:creator>Mirela</dc:creator>
  <dc:description/>
  <dc:language>en-US</dc:language>
  <cp:lastModifiedBy>User</cp:lastModifiedBy>
  <dcterms:modified xsi:type="dcterms:W3CDTF">2009-12-11T06:18:19Z</dcterms:modified>
  <cp:revision>41</cp:revision>
  <dc:subject>Sibiu</dc:subject>
  <dc:title>Noapte de toamna in Sibiu</dc:title>
</cp:coreProperties>
</file>